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3ED-3686-42E7-87D2-29C33D53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F94-FDDD-47FA-A00F-C74D79FD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E3A-C19F-49E3-9DFF-87BDA8C5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665-A908-4192-AF60-EDB8416E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98EA-9B67-4960-A264-30E6436F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558-CA5F-4330-9A0F-80E57B95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979-FA01-4BF5-8811-47C72C69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1C6-9FA1-47D8-ADA7-2E85F412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E58-82A2-4136-B9E2-1A9EBE70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C7A-628C-47BD-ACF7-008ADBDC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347-CEE6-4AB3-BC12-1F48A5A7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504-8DDB-4AB4-8420-240FD320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B711-DB3A-47C3-AB66-91E2D38C1C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7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EED  VALLEY  TOURISTS         VALLEY  TOURISTS                       VALLEY  TOURISTS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657600" y="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.  16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Tweed Valley Tourists 2.JPG"/>
          <p:cNvPicPr/>
          <p:nvPr/>
        </p:nvPicPr>
        <p:blipFill>
          <a:blip r:embed="rId1"/>
          <a:stretch/>
        </p:blipFill>
        <p:spPr>
          <a:xfrm>
            <a:off x="1639800" y="115920"/>
            <a:ext cx="1408320" cy="13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weed Valley Tourists 1.jpg"/>
          <p:cNvPicPr/>
          <p:nvPr/>
        </p:nvPicPr>
        <p:blipFill>
          <a:blip r:embed="rId2"/>
          <a:stretch/>
        </p:blipFill>
        <p:spPr>
          <a:xfrm>
            <a:off x="344520" y="446040"/>
            <a:ext cx="107964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weed Valley Tourists 3.JPG"/>
          <p:cNvPicPr/>
          <p:nvPr/>
        </p:nvPicPr>
        <p:blipFill>
          <a:blip r:embed="rId3"/>
          <a:stretch/>
        </p:blipFill>
        <p:spPr>
          <a:xfrm>
            <a:off x="3440160" y="476280"/>
            <a:ext cx="10429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9:29:27Z</dcterms:created>
  <dc:creator>JY</dc:creator>
  <dc:description/>
  <dc:language>en-US</dc:language>
  <cp:lastModifiedBy>John</cp:lastModifiedBy>
  <dcterms:modified xsi:type="dcterms:W3CDTF">2011-12-20T21:56:55Z</dcterms:modified>
  <cp:revision>9</cp:revision>
  <dc:subject/>
  <dc:title>Slide 1</dc:title>
</cp:coreProperties>
</file>